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6.jpeg" ContentType="image/jpeg"/>
  <Override PartName="/ppt/media/image17.png" ContentType="image/png"/>
  <Override PartName="/ppt/media/image20.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1.png" ContentType="image/png"/>
  <Override PartName="/ppt/media/image46.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35.jpeg" ContentType="image/jpeg"/>
  <Override PartName="/ppt/media/image10.png" ContentType="image/png"/>
  <Override PartName="/ppt/media/image39.png" ContentType="image/png"/>
  <Override PartName="/ppt/media/image9.png" ContentType="image/png"/>
  <Override PartName="/ppt/media/image37.png" ContentType="image/png"/>
  <Override PartName="/ppt/media/image7.png" ContentType="image/png"/>
  <Override PartName="/ppt/media/image2.png" ContentType="image/png"/>
  <Override PartName="/ppt/media/image32.png" ContentType="image/png"/>
  <Override PartName="/ppt/media/image13.png" ContentType="image/png"/>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BDA6-D37D-4E76-9838-61CBDD0FE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Juvenile Crime.   Measuring Juvenile Criminal Behavior.</a:t>
            </a:r>
            <a:endParaRPr b="0" lang="en-US" sz="14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74B1-C517-4193-9EB3-2D65B63E3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lice contact with a juvenile where there is no probable cause to believe a UCR offense was committed should not be counted as an arrest.</a:t>
            </a:r>
            <a:endParaRPr b="0" lang="en-US" sz="14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64F1-3521-4834-9C7C-2C2F79BE0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 examples of situations that should not be counted as arrests include the following situatio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enagers in the town park after closing are instructed by police to leav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juvenile taken into custody for his or her own protection,  such as in neglect cas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llow-up contact with young offenders by officers for the purpose of determining the offender’s progress.</a:t>
            </a:r>
            <a:endParaRPr b="0" lang="en-US" sz="14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CE9D-F149-4E3F-B0A2-5D60453AC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R data is important because in New York State, “juvenile arrest” data from the ASR Report is the only regularly available indicator of juvenile crime.  It is part of the national data set and is used to inform policy and funding decisions.  Most importantly, juvenile arrest data from the ASR is used to measure Disproportionate Minority Contact (DMC).</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MC refers to a requirement for all states receiving </a:t>
            </a:r>
            <a:r>
              <a:rPr b="0" i="1" lang="en-US" sz="1400" spc="-1" strike="noStrike">
                <a:solidFill>
                  <a:srgbClr val="000000"/>
                </a:solidFill>
                <a:latin typeface="Calibri"/>
              </a:rPr>
              <a:t>Juvenile Justice and Delinquency Prevention Formula Grants</a:t>
            </a:r>
            <a:r>
              <a:rPr b="0" lang="en-US" sz="1400" spc="-1" strike="noStrike">
                <a:solidFill>
                  <a:srgbClr val="000000"/>
                </a:solidFill>
                <a:latin typeface="Calibri"/>
              </a:rPr>
              <a:t> to address “juvenile delinquency prevention efforts and system improvement efforts designed to reduce the disproportionate number of juvenile members of minority groups who come into contact with the juvenile justice system.”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pt of federal grant money is contingent on the collection of juvenile arrest data from the ASR.</a:t>
            </a:r>
            <a:endParaRPr b="0" lang="en-US" sz="14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F4D7-7810-4D39-8D20-F207F7135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paring the ASR Repor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rrests of Juveniles Under 18 years of age</a:t>
            </a:r>
            <a:endParaRPr b="0" lang="en-US" sz="14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887E-9E17-4D9A-8E24-ABACF93D8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 the ASR, the total number of Arrestees Under 18 should be equal to the Race total and the Ethnic Origin total.  It is important to note that Race and Ethnic Origin are separate categories.  For example when a White, Non-Hispanic, 15 year old male is arrested for burglary, the arrest should be counted once under the Age of 15, once under the Race of White, and once under the Ethnic Origin of Non-Hispanic.</a:t>
            </a:r>
            <a:endParaRPr b="0" lang="en-US" sz="14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8202-C497-43BB-B3E6-F333DFE38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 People , Not Charg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SR Report counts the number of individuals arrested.  It does not count the total number of charges lodged.   An arrestee may be charged with multiple offenses, but only the most serious charge is counted.   UCR statistics are intended to assist law enforcement in identifying crime problems.  It is therefore important to record the offense counts as opposed to the findings of a court, coroner, jury, or the decision of a prosecutor.</a:t>
            </a:r>
            <a:endParaRPr b="0" lang="en-US" sz="14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51BB-B511-46DA-B765-F9D2F79DA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Hierarchy Rul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Hierarchy rule states that if a person is arrested for multiple offenses that were committed simultaneously, only the offense highest in the hierarchy of UCR crimes is counted.  Both Part 1 and Part 2 offenses are listed in hierarchical order on the Return A and ASR report forms.</a:t>
            </a:r>
            <a:endParaRPr b="0" lang="en-US" sz="14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BB91-E2B6-4A13-BBB7-BA1D303D7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illustrate the Hierarchy Rule, consider the following exampl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wo women are arrested for breaking into a car dealership after closing hours (Burglary).  They took the cash from the dealership’s office safe (Larceny-Theft) and two new automobiles from the garage (Motor Vehicle Theft). What offense should be report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llowing the Hierarchy Rule, Burglary is the highest of the offenses, so ONLY an arrest for Burglary should be counted on the Monthly ASR Report.</a:t>
            </a:r>
            <a:endParaRPr b="0" lang="en-US" sz="14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72F9-1F49-4B7F-89D1-3EFE1D734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paration of Time and Plac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person may be arrested multiple times during a month for similar or different violations within a jurisdic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there is a separation of time between arrests, the agency must score each arrest separatel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17E5-9566-45AA-93B5-6D9E961EB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example, a man and woman are parked at a secluded location.  A gunman surprises them and shoots and kills the man.  The gunman abducts the woman and drives across town to a secluded location where he rapes her.  The police arrest the perpetrator at the scen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ncident is an example of two separate crimes against a person – Criminal Homicide and Rape.  The Hierarchy Rule does not apply because there is a separation of time and place between the two crimes.</a:t>
            </a:r>
            <a:endParaRPr b="0" lang="en-US" sz="14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E448-40BF-4F1A-A06F-4A80D99DD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review of juvenile arrest data submitted through the UCR crime reporting program identified some data quality issues with regard to what agencies report as a juvenile arrest.  The purpose of this training is to clarify when a juvenile disposition should be counted as a juvenile arres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itionally, this training  reviews the process for compiling the monthly Juvenile ASR report, clarifies the difference between Race and Ethnic Origin classifications, and reviews </a:t>
            </a:r>
            <a:r>
              <a:rPr b="0" i="1" lang="en-US" sz="1400" spc="-1" strike="noStrike">
                <a:solidFill>
                  <a:srgbClr val="000000"/>
                </a:solidFill>
                <a:latin typeface="Calibri"/>
              </a:rPr>
              <a:t>Police Dispositions of Juveniles Under 16 Years of Age</a:t>
            </a: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FD29-402D-4D23-979B-4CB11DFF9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ying Race and Ethnic Origi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get a better handle on classifying race and ethnic origin on the ASR report, the next section will review the definitions for each race and ethnic origin.</a:t>
            </a:r>
            <a:endParaRPr b="0" lang="en-US" sz="14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14FB-7E05-468B-A5AA-5AFECCCDE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CR program uses four race classifications and two ethnic origin classification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acial categories used in the UCR Program were adopted from the </a:t>
            </a:r>
            <a:r>
              <a:rPr b="0" i="1" lang="en-US" sz="1400" spc="-1" strike="noStrike">
                <a:solidFill>
                  <a:srgbClr val="000000"/>
                </a:solidFill>
                <a:latin typeface="Calibri"/>
              </a:rPr>
              <a:t>Statistical Policy Handbook </a:t>
            </a:r>
            <a:r>
              <a:rPr b="0" lang="en-US" sz="1400" spc="-1" strike="noStrike">
                <a:solidFill>
                  <a:srgbClr val="000000"/>
                </a:solidFill>
                <a:latin typeface="Calibri"/>
              </a:rPr>
              <a:t>(1978) published by the Office of Federal Statistical Policy and Standards.  These racial categories include Black, White, American Indian or Alaskan Native, and Asian or Pacific Island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law enforcement agencies mistakenly count Hispanic as a 5th racial designation.   Hispanic is NOT a racial category.  It is an ethnic origi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w Enforcement agencies should indicate both a race and an ethnic origin classification for each arrestee.</a:t>
            </a:r>
            <a:endParaRPr b="0" lang="en-US" sz="14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8867-58B4-4795-8D9C-6EEE64C3A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racial designation of </a:t>
            </a:r>
            <a:r>
              <a:rPr b="0" i="1" lang="en-US" sz="1400" spc="-1" strike="noStrike">
                <a:solidFill>
                  <a:srgbClr val="000000"/>
                </a:solidFill>
                <a:latin typeface="Calibri"/>
              </a:rPr>
              <a:t>White</a:t>
            </a:r>
            <a:r>
              <a:rPr b="0" lang="en-US" sz="1400" spc="-1" strike="noStrike">
                <a:solidFill>
                  <a:srgbClr val="000000"/>
                </a:solidFill>
                <a:latin typeface="Calibri"/>
              </a:rPr>
              <a:t> refers to a person who has origins  in any of the original people of Europe, North Africa, or the Middle East.  It is noteworthy that what is loosely referred to as the </a:t>
            </a:r>
            <a:r>
              <a:rPr b="0" i="1" lang="en-US" sz="1400" spc="-1" strike="noStrike">
                <a:solidFill>
                  <a:srgbClr val="000000"/>
                </a:solidFill>
                <a:latin typeface="Calibri"/>
              </a:rPr>
              <a:t>White </a:t>
            </a:r>
            <a:r>
              <a:rPr b="0" lang="en-US" sz="1400" spc="-1" strike="noStrike">
                <a:solidFill>
                  <a:srgbClr val="000000"/>
                </a:solidFill>
                <a:latin typeface="Calibri"/>
              </a:rPr>
              <a:t>race includes many persons of dark skin color.</a:t>
            </a:r>
            <a:endParaRPr b="0" lang="en-US" sz="14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BCFA-49C3-416F-981C-85DA278DF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racial designation of </a:t>
            </a:r>
            <a:r>
              <a:rPr b="0" i="1" lang="en-US" sz="1400" spc="-1" strike="noStrike">
                <a:solidFill>
                  <a:srgbClr val="000000"/>
                </a:solidFill>
                <a:latin typeface="Calibri"/>
              </a:rPr>
              <a:t>Black </a:t>
            </a:r>
            <a:r>
              <a:rPr b="0" lang="en-US" sz="1400" spc="-1" strike="noStrike">
                <a:solidFill>
                  <a:srgbClr val="000000"/>
                </a:solidFill>
                <a:latin typeface="Calibri"/>
              </a:rPr>
              <a:t>refers to a person having origins in any of the black racial groups of Africa.</a:t>
            </a:r>
            <a:endParaRPr b="0" lang="en-US" sz="14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BA35-4F94-445B-8AF9-6036C2844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racial designation of American Indian or Alaskan Native</a:t>
            </a:r>
            <a:r>
              <a:rPr b="0" i="1" lang="en-US" sz="1400" spc="-1" strike="noStrike">
                <a:solidFill>
                  <a:srgbClr val="000000"/>
                </a:solidFill>
                <a:latin typeface="Calibri"/>
              </a:rPr>
              <a:t> </a:t>
            </a:r>
            <a:r>
              <a:rPr b="0" lang="en-US" sz="1400" spc="-1" strike="noStrike">
                <a:solidFill>
                  <a:srgbClr val="000000"/>
                </a:solidFill>
                <a:latin typeface="Calibri"/>
              </a:rPr>
              <a:t>refers to a person having origins in any of the original peoples of North America and who maintains cultural identification through tribal affiliation or community recognition. </a:t>
            </a:r>
            <a:endParaRPr b="0" lang="en-US" sz="14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266E-DB18-40C3-A8F3-D7B843B96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racial designation of Asian or Pacific Islander refers to a person having origins in any of the original peoples of the Far East, Southeast Asia, the Indian subcontinent, or the Pacific Islands.   This area includes, for example, China, India, Japan, Korea, the Philippine Islands, and Samoa.</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C4EE-4F08-4BD5-9AD0-AC127C0FE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hnic Origin refers to whether an arrestee is Hispanic or Non-Hispanic.</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panic refers is a person of Mexican, Puerto Rican, Cuban, South or Central American, or other Spanish speaking culture regardless of rac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other people are Non-Hispanic.</a:t>
            </a:r>
            <a:endParaRPr b="0" lang="en-US" sz="14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837D-65C2-4D81-B32A-09FECF00C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key to determining race and ethnic origin of arrestees is to use your best judgment.  Remember that both race and ethnic origin must be classified for each arrestee.  DCJS will contact agencies that do not provide this essential information.</a:t>
            </a:r>
            <a:endParaRPr b="0" lang="en-US" sz="14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190D-431F-442E-B435-0814609C5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ying Race and Ethnic Origin Exampl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15 year old male is arrested after leaving a gas station without paying for the gas he pumped into his car.   When police arrest him, he identifies himself as Puerto Rica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should the arrestee be classified with regard to Race AND Ethnic Origi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cause the arrestee identified himself as Puerto Rican, the officer should report the ethnic origin as </a:t>
            </a:r>
            <a:r>
              <a:rPr b="0" i="1" lang="en-US" sz="1400" spc="-1" strike="noStrike">
                <a:solidFill>
                  <a:srgbClr val="000000"/>
                </a:solidFill>
                <a:latin typeface="Calibri"/>
              </a:rPr>
              <a:t>Hispanic</a:t>
            </a:r>
            <a:r>
              <a:rPr b="0" lang="en-US" sz="1400" spc="-1" strike="noStrike">
                <a:solidFill>
                  <a:srgbClr val="000000"/>
                </a:solidFill>
                <a:latin typeface="Calibri"/>
              </a:rPr>
              <a:t>. People of Puerto Rican lineage can be a mix of White (European/Spanish), Native American, and African ancestr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there is no apparent tribal affiliation, the officer can eliminate Native American as a choice.  Using his best judgment, the officer must determine if the arrestee is white or black.</a:t>
            </a:r>
            <a:endParaRPr b="0" lang="en-US" sz="14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11DC-67B3-4D8E-8F10-C24332B5F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deciding on race and ethnic origin classifications, the rule of thumb is to use your best judgme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WAYS  indicate a race and ethnic origin for an arrestee regardless of any uncertainty.  If you leave </a:t>
            </a:r>
            <a:r>
              <a:rPr b="0" i="1" lang="en-US" sz="1400" spc="-1" strike="noStrike">
                <a:solidFill>
                  <a:srgbClr val="000000"/>
                </a:solidFill>
                <a:latin typeface="Calibri"/>
              </a:rPr>
              <a:t>Race</a:t>
            </a:r>
            <a:r>
              <a:rPr b="0" lang="en-US" sz="1400" spc="-1" strike="noStrike">
                <a:solidFill>
                  <a:srgbClr val="000000"/>
                </a:solidFill>
                <a:latin typeface="Calibri"/>
              </a:rPr>
              <a:t> or </a:t>
            </a:r>
            <a:r>
              <a:rPr b="0" i="1" lang="en-US" sz="1400" spc="-1" strike="noStrike">
                <a:solidFill>
                  <a:srgbClr val="000000"/>
                </a:solidFill>
                <a:latin typeface="Calibri"/>
              </a:rPr>
              <a:t>Ethnic Origin  </a:t>
            </a:r>
            <a:r>
              <a:rPr b="0" lang="en-US" sz="1400" spc="-1" strike="noStrike">
                <a:solidFill>
                  <a:srgbClr val="000000"/>
                </a:solidFill>
                <a:latin typeface="Calibri"/>
              </a:rPr>
              <a:t>blank, DCJS will call you back and ask you to provide this informa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llection of demographic information is important because it helps the state address DMC,  a core requirement for </a:t>
            </a:r>
            <a:r>
              <a:rPr b="0" i="1" lang="en-US" sz="1400" spc="-1" strike="noStrike">
                <a:solidFill>
                  <a:srgbClr val="000000"/>
                </a:solidFill>
                <a:latin typeface="Calibri"/>
              </a:rPr>
              <a:t>Formula Grant</a:t>
            </a:r>
            <a:r>
              <a:rPr b="0" lang="en-US" sz="1400" spc="-1" strike="noStrike">
                <a:solidFill>
                  <a:srgbClr val="000000"/>
                </a:solidFill>
                <a:latin typeface="Calibri"/>
              </a:rPr>
              <a:t> funding under the </a:t>
            </a:r>
            <a:r>
              <a:rPr b="0" i="1" lang="en-US" sz="1400" spc="-1" strike="noStrike">
                <a:solidFill>
                  <a:srgbClr val="000000"/>
                </a:solidFill>
                <a:latin typeface="Calibri"/>
              </a:rPr>
              <a:t>Juvenile Justice and Delinquency Prevention (JJDP) Act</a:t>
            </a:r>
            <a:r>
              <a:rPr b="0" lang="en-US" sz="1400" spc="-1" strike="noStrike">
                <a:solidFill>
                  <a:srgbClr val="000000"/>
                </a:solidFill>
                <a:latin typeface="Calibri"/>
              </a:rPr>
              <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use your best judgment and save time by filling out the ASR as completely as possible.</a:t>
            </a:r>
            <a:endParaRPr b="0" lang="en-US" sz="14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C197-AD1E-449D-93F2-17C8A1CE4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CR reporting program requires law enforcement agencies to score a juvenile arrest when the circumstances are such that if the individual were an adult, an arrest would have been counted.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agencies must score juvenile arrests opposite the classification of the offenses for which the juvenile was taken into custod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example, if police arrested a juvenile for committing an offense of larceny, the agency must score the arrest opposite the larceny-theft classification on the ASR report, even though the technical charge is juvenile delinquency.</a:t>
            </a:r>
            <a:endParaRPr b="0" lang="en-US" sz="14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0841-0EB0-49F1-9F97-2DB4EC6A7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venile Disposition Data</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s Under 16 Years of Age</a:t>
            </a:r>
            <a:endParaRPr b="0" lang="en-US" sz="14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F396-3DA6-42AC-8235-BE35D1ACD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nal segment of this training will review the block at the end of the ASR report which is used for the purpose of collecting data concerning the law enforcement dispositions of juveniles who are taken into custody or arrested.</a:t>
            </a:r>
            <a:endParaRPr b="0" lang="en-US" sz="14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7384-4A4D-4893-9D39-E1EEF43C6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porting agency must use the New York State definition of juvenile in completing the </a:t>
            </a:r>
            <a:r>
              <a:rPr b="0" i="1" lang="en-US" sz="1400" spc="-1" strike="noStrike">
                <a:solidFill>
                  <a:srgbClr val="000000"/>
                </a:solidFill>
                <a:latin typeface="Calibri"/>
              </a:rPr>
              <a:t>Police Disposition of Juveniles</a:t>
            </a:r>
            <a:r>
              <a:rPr b="0" lang="en-US" sz="1400" spc="-1" strike="noStrike">
                <a:solidFill>
                  <a:srgbClr val="000000"/>
                </a:solidFill>
                <a:latin typeface="Calibri"/>
              </a:rPr>
              <a:t> form.  New York State defines a juvenile as anyone under 16 years of ag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include juvenile arrests of persons under 16 years of age in the </a:t>
            </a:r>
            <a:r>
              <a:rPr b="0" i="1" lang="en-US" sz="1400" spc="-1" strike="noStrike">
                <a:solidFill>
                  <a:srgbClr val="000000"/>
                </a:solidFill>
                <a:latin typeface="Calibri"/>
              </a:rPr>
              <a:t>Police Disposition of Juveniles</a:t>
            </a:r>
            <a:r>
              <a:rPr b="0" lang="en-US" sz="1400" spc="-1" strike="noStrike">
                <a:solidFill>
                  <a:srgbClr val="000000"/>
                </a:solidFill>
                <a:latin typeface="Calibri"/>
              </a:rPr>
              <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FF7A-1752-437A-BA70-FEDF872B7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onciling Juvenile Dispositions with the Juvenile ASR for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report the disposition of those juveniles under 16 that were reported on the ASR for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 NOT include the disposition of those juveniles where police intervention occurred for a non UCR defined offens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otal number of dispositions should be equal to the total number of reported arrests of persons under 16 years of age on the ASR form.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xception to this occurs ONLY when the number of dispositions </a:t>
            </a:r>
            <a:r>
              <a:rPr b="0" i="1" lang="en-US" sz="1400" spc="-1" strike="noStrike">
                <a:solidFill>
                  <a:srgbClr val="000000"/>
                </a:solidFill>
                <a:latin typeface="Calibri"/>
              </a:rPr>
              <a:t>Referred to Other Police Agency</a:t>
            </a:r>
            <a:r>
              <a:rPr b="0" lang="en-US" sz="1400" spc="-1" strike="noStrike">
                <a:solidFill>
                  <a:srgbClr val="000000"/>
                </a:solidFill>
                <a:latin typeface="Calibri"/>
              </a:rPr>
              <a:t> is greater than the number of arrests reported on the ASR.   In this disposition, a reporting agency is taking juveniles into custody for the purpose of referring them to another police agency that will subsequently report these arrests.  </a:t>
            </a:r>
            <a:endParaRPr b="0" lang="en-US" sz="14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6B8E-AA69-4AA9-80E9-46C73D121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w Enforcement Interventio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dult arrestee is usually held for prosecution for some charge or is released for future handling in court.  Depending the seriousness of the offense and the offender’s prior criminal record, a juvenile may be warned by the police and released to parents, relatives, friends or guardians.  Juveniles may also be referred to a probation department, juvenile court, welfare agency, or to another police agency.  For serious offenses, juveniles can be referred to criminal or adult court by waiver of the juvenile court.</a:t>
            </a:r>
            <a:endParaRPr b="0" lang="en-US" sz="14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5BBA-6472-45D4-B0C3-03FFF32E8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ndled within Department and Relea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lice take many juveniles into custody or arrest them for committing a violation , but make no referral to juvenile court and do not file formal charges.  In most cases the juvenile is warned by the police and released, to parents, relatives or friends.  Reporting agencies must enter such cases on line 1  in the </a:t>
            </a:r>
            <a:r>
              <a:rPr b="0" i="1" lang="en-US" sz="1400" spc="-1" strike="noStrike">
                <a:solidFill>
                  <a:srgbClr val="000000"/>
                </a:solidFill>
                <a:latin typeface="Calibri"/>
              </a:rPr>
              <a:t>Police Disposition of Juveniles</a:t>
            </a:r>
            <a:r>
              <a:rPr b="0" lang="en-US" sz="1400" spc="-1" strike="noStrike">
                <a:solidFill>
                  <a:srgbClr val="000000"/>
                </a:solidFill>
                <a:latin typeface="Calibri"/>
              </a:rPr>
              <a:t> box.   Agencies must remember to score an arrest on the ASR report for juveniles that fit the following criteria:</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venile is under 16 years of ag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venile is arrested, but not referred to family cour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formal charge filed against the juvenile</a:t>
            </a:r>
            <a:endParaRPr b="0" lang="en-US" sz="14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D72A-F078-4D34-BF5B-E9EDA6051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ferred to Juvenile Court or Proba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rting agencies must enter on line 2 the number of juveniles under the age of 16 who are arrested and referred to the probation department, other person, agency, or group working within the jurisdiction of the Family Court.  If a juvenile is arrested and referred more than once during the month, the agency must count each referral just as it would count each arrest for an adult.</a:t>
            </a:r>
            <a:endParaRPr b="0" lang="en-US" sz="14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6D62-98A3-4548-92DC-59427036B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ferred to Welfare Agenc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ules for completing line</a:t>
            </a:r>
            <a:r>
              <a:rPr b="0" i="1" lang="en-US" sz="1400" spc="-1" strike="noStrike">
                <a:solidFill>
                  <a:srgbClr val="000000"/>
                </a:solidFill>
                <a:latin typeface="Calibri"/>
              </a:rPr>
              <a:t> </a:t>
            </a:r>
            <a:r>
              <a:rPr b="0" lang="en-US" sz="1400" spc="-1" strike="noStrike">
                <a:solidFill>
                  <a:srgbClr val="000000"/>
                </a:solidFill>
                <a:latin typeface="Calibri"/>
              </a:rPr>
              <a:t>2 also apply to line 3 except that the police refer the youth to a welfare agency, either  public or private, rather than to juvenile court or probation departmen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 examples of welfare agencies include Local Boys and Girls Club, a Police Athletic League, or a local Social Services Department.</a:t>
            </a:r>
            <a:endParaRPr b="0" lang="en-US" sz="14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BB82-E249-47A8-893D-48FD79242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ferred to Other Police Agenc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most instances entries opposite line 4 include juveniles arrested by a department at the request of another law enforcement agency, and juveniles who committed crimes in one jurisdiction but reside in another and are turned over for handling to their home jurisdi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hough juveniles taken into custody for committing a crime in another jurisdiction must be included in the disposition portion of this form, they must be excluded from the arrest figures on the ASR Under 18 for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4980-A1A1-4A70-BB31-4581E8788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ferred to Criminal or Adult Cour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York State statute permits the waiving of juveniles for trial to criminal or adult court as adul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porting agency must enter the number of juveniles referred or waived to adult court on line 5.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if subsequent judicial actions transfer the case to another agency or court, the reporting agency must score the initial referral on this form.</a:t>
            </a:r>
            <a:endParaRPr b="0" lang="en-US" sz="14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F0E7-B780-4ACC-BCDC-66F796F77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efinition of juvenile arrest in the </a:t>
            </a:r>
            <a:r>
              <a:rPr b="0" i="1" lang="en-US" sz="1400" spc="-1" strike="noStrike">
                <a:solidFill>
                  <a:srgbClr val="000000"/>
                </a:solidFill>
                <a:latin typeface="Calibri"/>
              </a:rPr>
              <a:t>UCR Handbook</a:t>
            </a:r>
            <a:r>
              <a:rPr b="0" lang="en-US" sz="1400" spc="-1" strike="noStrike">
                <a:solidFill>
                  <a:srgbClr val="000000"/>
                </a:solidFill>
                <a:latin typeface="Calibri"/>
              </a:rPr>
              <a:t> is broad and somewhat vague. The intent of the UCR program is to provide law enforcement agencies with the type of data that illustrate the extent of a crime problem.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ederal UCR program collects “arrest” statistics to provide demographic information on who is committing crimes, and is not intended to track court or formal arrest activity. </a:t>
            </a:r>
            <a:endParaRPr b="0" lang="en-US" sz="14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A745-040F-4C37-8211-50A56E70E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ation of Runaway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CJS is no longer collecting data on Runaway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no longer necessary to report data for juveniles taken into custody as runaways, truants, or curfew and loitering law violator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94B1-99F9-4CA2-9C06-71F57CCC3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llow-Up on Inconsistent Data</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CJS will be calling agencies to verify data when it deviates from reported norms.  This will enable DCJS to provide the most accurate crime data and serve as a check against data entry errors.</a:t>
            </a:r>
            <a:endParaRPr b="0" lang="en-US" sz="14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3D2A-2ACA-45F7-8E15-8B45E8906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review the Juvenile Arrest Reporting Alert located in the Crime Reporting suite on the DCJS websit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CR Reporting Alert page includes memos on a variety of crime reporting topics.  Please check back periodically to stay abreast of the latest UCR related new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2900-8DF6-4A3E-A4FA-F2A66292F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more information about crime reporting,  please call the crime reporting unit at 1-800-262-3257, or email us at crimereporting@dcjs.ny.gov.</a:t>
            </a:r>
            <a:endParaRPr b="0" lang="en-US" sz="14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A601-03B1-4052-AE9F-BEFCDA211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SR provides a record of the total number of persons arrested, cited, or summoned for criminal acts in all Part I and Part II crimes.  It also furnishes the following demographic characteristic of arrestees: age, sex, race and ethnic origi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venile ASR form is designed to collect data on the number of persons arrested, not the number of charges lodged.</a:t>
            </a:r>
            <a:endParaRPr b="0" lang="en-US" sz="14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BE6E-B776-42FA-B94B-63EFA8EC3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review of New York State juvenile arrest data submitted through the UCR program identified some data quality issues with regard to what agencies are reporting as a juvenile arres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clarify when a juvenile arrest should be counted on the ASR, DCJS defines juvenile arrest as ANY situation where a police officer has probable cause to believe that a juvenile committed a Part I or Part II UCR offense AND that the juvenile is either “taken into custody” or issued an appearance ticket.</a:t>
            </a:r>
            <a:endParaRPr b="0" lang="en-US" sz="14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C86F-A5DD-41A2-B739-E4A680968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ing “taken into custody” can happen several ways ranging from: being handcuffed and placed in the back of a police vehicle, being brought to a police station for questioning, or being issued an appearance ticke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most commonly under-reported way of being “taken into custody” is being “warned and released without further ac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important to include juveniles who are “warned and released” in ASR Arrest reports to provide the most accurate depiction of juvenile criminal activity.    The following examples illustrate circumstances where juveniles are taken into custody and warned and released that should be counted in the ASR report.</a:t>
            </a:r>
            <a:endParaRPr b="0" lang="en-US" sz="14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E180-A08B-4603-BD0A-33034FDCC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first example, a juvenile male is taken into police custody after he is observed shoplifting (which is larceny-theft a Part I crim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ter questioning, the officer warns the juvenile, contacts the juvenile’s parents, and releases him to his parents after explaining the severity of the circumstances and reiterating the warning.   No formal charges are brought because the juvenile has no prior criminal history.   In this situation, an arrest for larceny-theft should be counted on the Juvenile ASR report.</a:t>
            </a:r>
            <a:endParaRPr b="0" lang="en-US" sz="14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9D95-DACA-4071-94C8-CC4698121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second example, a juvenile is pulled over by police for driving in excess of the posted speed limit.   A search of the vehicle uncovers drug paraphernalia and a small quantity of marijuana.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venile is detained by police until her legal guardian arrives at the scene.   Police confiscate the marijuana, destroy the paraphernalia, and release the juvenile to her legal guardian.  No formal charges are lodged against the juvenil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is circumstance the police could arrest the juvenile for drug possession, but instead decided to warn and release the juvenile to her legal guardian.  This incident should be counted as an arrest for drug possession on the Juvenile ASR report, even though no formal arrest was made.</a:t>
            </a:r>
            <a:endParaRPr b="0" lang="en-US" sz="14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8411-B40C-49D3-8075-65011C477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08270-8E05-47D6-BF0E-753CC65A8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81642-5111-4430-8456-3E213665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F2251-D8CB-4CE0-9E87-DCB7824CD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A0EA-63F9-44BE-815A-20E4067CC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9BBB6-7B77-45A4-9609-BF1534BFD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8F93-8592-4274-8596-85419B34E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6E809-9474-4C4F-8503-5E2A5CDF1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03697-2F46-48D1-8901-7B4824C78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0E19F-7791-449F-86FD-594404C0B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CF981-D419-427D-8F79-C23C44F80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D045-F5B0-4C87-9DED-6C28DF773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0C45-C195-4C7D-812C-6EA0D8E63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77C72-FA48-4CAA-A6EA-AB25E9A99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AAAAD-8B7B-4E76-B9E8-801CB35A1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26AA2-AC5D-4E77-A91B-F90F5DBAC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FEEA5-FEA6-4667-ABC2-F9670ABE1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16814-9316-475C-BA4E-066DA93BF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CE595-244F-4FF7-8BAE-F6E8D29BC8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93D2D-27C4-4BE7-9B2B-6A3EAE9B5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6FE71-B302-45A0-A85E-621F9D342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C1A85-C9BD-40BB-9F33-D4E6CF268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CCC35-2A73-4C9D-9372-D703A7E16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F76D8-3F0C-40BC-8256-87486D0D3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2839B-5BDA-4812-AC49-1714EE77F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2754A-1883-4580-BEA7-77B5FBB60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EACC4-721C-40C0-A536-AE171659B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6E3F8-D642-4349-847E-F0BE4387C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23E8C-DE9E-4AD3-B01C-8E91390B0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E83359-0419-4BDA-BB77-D77CBDE74F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FF131-1647-433F-94EC-AE7B3CB8A7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36AA00-A524-49DA-9ABA-CDE25F7DD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D19989-5FDD-4B97-9435-760D8BC27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FB588-0F33-4BCB-B353-30F0F4FFB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5A3C-5083-47EB-BD11-4DE841D46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7A7F5-FA62-49F9-AB87-14A184C57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E7B3F-2DA7-448B-A97C-38C23904F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8043E-8F8E-4531-A0F7-9792D88D9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4A7AE-9B30-4C32-AB08-A98EB166C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72E62-D5EB-4D04-AB67-DA164997C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E395C-C2F1-4706-863B-7BEA58DC9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881EA-0E79-44B6-A627-CBE853B33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B2EA3-B032-4604-B220-90EC96A56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E9DA57-3912-49EB-A1F1-8558594CA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38ACEB-E91B-4248-9C17-2B05C75E1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724D-CD2D-4DAE-9EFF-DD9E0A184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09C46F-4B2E-4C3C-9C8A-021083EFF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B83CA-9DC4-495A-B5FA-7E695EDD0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83367-4D80-439F-8639-851E2B601D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F7870D-7D82-42AC-BE25-912164F4F1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347D8-B6E8-4633-81BB-D121A67132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FC61E-E3E8-4D7C-B8DF-DB7E31E72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EA3D6-FDCD-4AE8-B7B3-7EE86DE9D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C1662-DFF2-44C9-A242-A26481AC1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B15AE-E72D-48BD-9478-850DD2D54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8EB9F7-8284-46DB-AAC5-475061514A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E2070-BF92-414D-98A2-D45DC9E84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4AD6FE-0876-4571-A5CD-B08510B12E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2536F4-DCB0-4B02-9A54-60889377D6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4B9CA-ED0C-4A1F-AEF2-7412BD645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8C5DB7-9B0A-4F0A-B24E-7C42DA239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822AA7-C1D0-4D3E-9455-6B88F7A51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E63983-7823-45D9-9884-94E53536D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CA650-0CD1-4D0B-8C9D-974C5CF60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31CB4-74ED-4DD0-A058-049946602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6F9E4-B7DB-4C38-819A-B0E4A20619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2E8C0-6FAC-496C-9044-3980A3CAC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984B-A651-49D1-B31F-670355CA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99501-1C7A-4437-8382-66A6C313D8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646E43-5BA2-4A41-8C90-BD4FEF061E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D050D6-ACC2-4494-A8F4-5D4B69D995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68219D-4714-4E5F-A472-E4BCD3B3E6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AB4D2-00E7-407C-B245-0463860102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4EF2D-A0FB-4A0D-B6DD-5EF4130BFB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4F02B-D3E5-4A00-B73B-D116A218B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CE7931-E5F1-4360-8A65-AFAC6EC47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E53E5-10E0-4EF3-A009-12C73389B7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B1427-6AFF-455D-B294-D23C2BE7B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72E8-54F0-4929-94FE-686AE664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C5F8E-8683-4160-8C76-CCB5CCDEE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B1FB0-7CB9-4E19-8B12-4FA2EC1BE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DBC45-317B-4809-A331-09E37917A1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70D2B5-099E-4408-9331-69DF1C10B1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D8F5C7-6480-4DE4-A2EB-4EDD71423F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823C4F-0DF7-4531-973A-921B90688A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CC814A-743B-403F-BD55-2C5F89A267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D51A5-26E8-4B78-B9E4-09909414F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E1FCBC-65CF-4507-9BCC-F8AA883E2E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25090-D039-48A9-85DC-1AEC32BE0A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FE2C-41FD-4CC0-8A0D-E2DB9B0C5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E4E168-70B6-45C5-8075-192EE96A7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00EE7-B7E1-467A-B1C6-D7087AA3F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5B35A-31FF-4DF9-AFA7-CB781A1A0C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550EF-9A0D-4187-A17A-335C43970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146E04-4635-42F3-9572-7732D2BBF3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130CCB-C4D4-4D90-ABD6-DABB7E12DC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F92286-FC00-4C79-82B4-08DCE67CFBE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5BD9-A77E-4C99-8D57-F88F43FDE74C}"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48B4-05F9-48B1-B7C3-BF01DF387D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0FD3-92BD-4FFA-85A2-6D5DA85C2468}"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3452-0429-48F2-8A0D-84DF7274360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D09C-E891-4D3D-97F8-92A9A6DBF21B}"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555F-79BD-4B35-AD2E-2652784FED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F644-C1E3-4826-A1F7-BE6F0899FD3E}"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4905-09EE-4175-A515-E018EC5358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C5AA-753D-42F5-B979-FDCDDEC9DA9B}"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24AB-45F5-405A-9257-3F4A8AF004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C407-4D14-4507-B46E-E3E35344117E}"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744C-65B5-4040-8A01-7E5889CFF0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ADCA-7119-41EE-8BFD-7C031E3E790D}"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04C3-794B-49FC-BB66-237710E839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D7BA-78A4-4ED9-939B-2BAB549BE64F}"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5D71-8C18-4835-9A14-AF53A9F5EB9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657440"/>
            <a:ext cx="8332920" cy="19396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46"/>
                </a:solidFill>
                <a:latin typeface="Lucida Sans Unicode"/>
              </a:rPr>
              <a:t>Measuring Juvenile Criminal Behavior</a:t>
            </a:r>
            <a:endParaRPr b="0" lang="en-US" sz="2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Presented by:  Zak Morton</a:t>
            </a: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37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9448-9A9D-4913-9591-4DA366F26D9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f there is no probable cause, an arres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ould NOT be counted on the ASR repor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5" name="Title 1" descr=""/>
          <p:cNvPicPr/>
          <p:nvPr/>
        </p:nvPicPr>
        <p:blipFill>
          <a:blip r:embed="rId1"/>
          <a:stretch/>
        </p:blipFill>
        <p:spPr>
          <a:xfrm>
            <a:off x="237960" y="268200"/>
            <a:ext cx="8656920" cy="1158840"/>
          </a:xfrm>
          <a:prstGeom prst="rect">
            <a:avLst/>
          </a:prstGeom>
          <a:ln w="0">
            <a:noFill/>
          </a:ln>
        </p:spPr>
      </p:pic>
      <p:sp>
        <p:nvSpPr>
          <p:cNvPr id="40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473E-C706-4F0F-891E-09E992B881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eenagers in the town park after closing are instructed by police to leave.</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juvenile taken into custody for his or her own protection, e.g., neglect cas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llow-up contact with young offenders by officers for the purpose of determining the offender’s progress.</a:t>
            </a:r>
            <a:endParaRPr b="0" lang="en-US" sz="2800" spc="-1" strike="noStrike">
              <a:solidFill>
                <a:srgbClr val="000000"/>
              </a:solidFill>
              <a:latin typeface="Lucida Sans Unicode"/>
            </a:endParaRPr>
          </a:p>
        </p:txBody>
      </p:sp>
      <p:pic>
        <p:nvPicPr>
          <p:cNvPr id="408" name="Title 2" descr=""/>
          <p:cNvPicPr/>
          <p:nvPr/>
        </p:nvPicPr>
        <p:blipFill>
          <a:blip r:embed="rId1"/>
          <a:stretch/>
        </p:blipFill>
        <p:spPr>
          <a:xfrm>
            <a:off x="450720" y="268200"/>
            <a:ext cx="8242560" cy="1158840"/>
          </a:xfrm>
          <a:prstGeom prst="rect">
            <a:avLst/>
          </a:prstGeom>
          <a:ln w="0">
            <a:noFill/>
          </a:ln>
        </p:spPr>
      </p:pic>
      <p:sp>
        <p:nvSpPr>
          <p:cNvPr id="40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E4D8-967F-49E6-B607-75DD474DD0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218960"/>
            <a:ext cx="8229600" cy="4787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 New York State, “juvenile arrest” data from</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ASR Report is the ONLY indicator of</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juvenile crim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ed to inform policy and funding decisio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asure Disproportionate Minority Contact (DMC)</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rt of national data set</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1" name="Title 1" descr=""/>
          <p:cNvPicPr/>
          <p:nvPr/>
        </p:nvPicPr>
        <p:blipFill>
          <a:blip r:embed="rId1"/>
          <a:stretch/>
        </p:blipFill>
        <p:spPr>
          <a:xfrm>
            <a:off x="450720" y="268200"/>
            <a:ext cx="8242560" cy="1158840"/>
          </a:xfrm>
          <a:prstGeom prst="rect">
            <a:avLst/>
          </a:prstGeom>
          <a:ln w="0">
            <a:noFill/>
          </a:ln>
        </p:spPr>
      </p:pic>
      <p:sp>
        <p:nvSpPr>
          <p:cNvPr id="41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2051-2C0F-41D8-BF83-E32431A3BC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3" descr=""/>
          <p:cNvPicPr/>
          <p:nvPr/>
        </p:nvPicPr>
        <p:blipFill>
          <a:blip r:embed="rId1"/>
          <a:stretch/>
        </p:blipFill>
        <p:spPr>
          <a:xfrm>
            <a:off x="426960" y="1749600"/>
            <a:ext cx="8283600" cy="1841400"/>
          </a:xfrm>
          <a:prstGeom prst="rect">
            <a:avLst/>
          </a:prstGeom>
          <a:ln w="0">
            <a:noFill/>
          </a:ln>
        </p:spPr>
      </p:pic>
      <p:sp>
        <p:nvSpPr>
          <p:cNvPr id="41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rrests of Juveniles Under 18 years of age</a:t>
            </a:r>
            <a:endParaRPr b="0" lang="en-US" sz="2700" spc="-1" strike="noStrike">
              <a:solidFill>
                <a:srgbClr val="000000"/>
              </a:solidFill>
              <a:latin typeface="Lucida Sans Unicode"/>
            </a:endParaRPr>
          </a:p>
        </p:txBody>
      </p:sp>
      <p:sp>
        <p:nvSpPr>
          <p:cNvPr id="415"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D9D3-5315-4BAF-B362-0171D4CAA7C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E564-0CB6-4A0A-A8FF-F34E14AE7F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1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ASR Report counts the number of people</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rested, not the number of charges lodged.</a:t>
            </a:r>
            <a:endParaRPr b="0" lang="en-US" sz="2800" spc="-1" strike="noStrike">
              <a:solidFill>
                <a:srgbClr val="000000"/>
              </a:solidFill>
              <a:latin typeface="Lucida Sans Unicode"/>
            </a:endParaRPr>
          </a:p>
        </p:txBody>
      </p:sp>
      <p:pic>
        <p:nvPicPr>
          <p:cNvPr id="419" name="Title 1" descr=""/>
          <p:cNvPicPr/>
          <p:nvPr/>
        </p:nvPicPr>
        <p:blipFill>
          <a:blip r:embed="rId1"/>
          <a:stretch/>
        </p:blipFill>
        <p:spPr>
          <a:xfrm>
            <a:off x="158760" y="268200"/>
            <a:ext cx="8813880" cy="1158840"/>
          </a:xfrm>
          <a:prstGeom prst="rect">
            <a:avLst/>
          </a:prstGeom>
          <a:ln w="0">
            <a:noFill/>
          </a:ln>
        </p:spPr>
      </p:pic>
      <p:sp>
        <p:nvSpPr>
          <p:cNvPr id="42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5268-7D09-4609-A37D-AD8A192448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t>
            </a:r>
            <a:r>
              <a:rPr b="0" lang="en-US" sz="2800" spc="-1" strike="noStrike">
                <a:solidFill>
                  <a:srgbClr val="000000"/>
                </a:solidFill>
                <a:latin typeface="Lucida Sans Unicode"/>
              </a:rPr>
              <a:t>If a person is arrested for multiple offense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at were committed simultaneously, only the</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ffense highest in the hierarchy of UCR</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imes is counte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pic>
        <p:nvPicPr>
          <p:cNvPr id="422" name="Title 7" descr=""/>
          <p:cNvPicPr/>
          <p:nvPr/>
        </p:nvPicPr>
        <p:blipFill>
          <a:blip r:embed="rId1"/>
          <a:stretch/>
        </p:blipFill>
        <p:spPr>
          <a:xfrm>
            <a:off x="378000" y="285840"/>
            <a:ext cx="8242200" cy="1274760"/>
          </a:xfrm>
          <a:prstGeom prst="rect">
            <a:avLst/>
          </a:prstGeom>
          <a:ln w="0">
            <a:noFill/>
          </a:ln>
        </p:spPr>
      </p:pic>
      <p:sp>
        <p:nvSpPr>
          <p:cNvPr id="42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0283-9AE3-470E-98A1-B33B4FB457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533520" y="14479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women are arrested for breaking into a ca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alership after closing hours (Burglar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stole cash from the dealership’s offic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fe (Larceny-theft) and two new automobil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om the garage (Motor Vehicle Thef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offense should be reported?</a:t>
            </a:r>
            <a:endParaRPr b="0" lang="en-US" sz="2700" spc="-1" strike="noStrike">
              <a:solidFill>
                <a:srgbClr val="000000"/>
              </a:solidFill>
              <a:latin typeface="Lucida Sans Unicode"/>
            </a:endParaRPr>
          </a:p>
        </p:txBody>
      </p:sp>
      <p:pic>
        <p:nvPicPr>
          <p:cNvPr id="425" name="Title 1" descr=""/>
          <p:cNvPicPr/>
          <p:nvPr/>
        </p:nvPicPr>
        <p:blipFill>
          <a:blip r:embed="rId1"/>
          <a:stretch/>
        </p:blipFill>
        <p:spPr>
          <a:xfrm>
            <a:off x="450720" y="268200"/>
            <a:ext cx="8242560" cy="1158840"/>
          </a:xfrm>
          <a:prstGeom prst="rect">
            <a:avLst/>
          </a:prstGeom>
          <a:ln w="0">
            <a:noFill/>
          </a:ln>
        </p:spPr>
      </p:pic>
      <p:sp>
        <p:nvSpPr>
          <p:cNvPr id="42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4B7A-7041-4940-BC39-1323C4D085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person may be arrested multiple tim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uring a month for similar or differen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olations within a jurisdiction.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there is a separation of time betwee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rests, the agency must score each arres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paratel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8" name="Title 1" descr=""/>
          <p:cNvPicPr/>
          <p:nvPr/>
        </p:nvPicPr>
        <p:blipFill>
          <a:blip r:embed="rId1"/>
          <a:stretch/>
        </p:blipFill>
        <p:spPr>
          <a:xfrm>
            <a:off x="530280" y="225360"/>
            <a:ext cx="8242200" cy="1152720"/>
          </a:xfrm>
          <a:prstGeom prst="rect">
            <a:avLst/>
          </a:prstGeom>
          <a:ln w="0">
            <a:noFill/>
          </a:ln>
        </p:spPr>
      </p:pic>
      <p:sp>
        <p:nvSpPr>
          <p:cNvPr id="42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7ACE-8CEE-425F-9C14-42EA34C411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 and woman parked in secluded loc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unman shoots and kills man, abducts woman, drives her across town and rapes h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separate crimes – Homicide and Rap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erarchy rule is not used due to separation of time and pla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1" name="Title 2" descr=""/>
          <p:cNvPicPr/>
          <p:nvPr/>
        </p:nvPicPr>
        <p:blipFill>
          <a:blip r:embed="rId1"/>
          <a:stretch/>
        </p:blipFill>
        <p:spPr>
          <a:xfrm>
            <a:off x="450720" y="122400"/>
            <a:ext cx="8242560" cy="1341360"/>
          </a:xfrm>
          <a:prstGeom prst="rect">
            <a:avLst/>
          </a:prstGeom>
          <a:ln w="0">
            <a:noFill/>
          </a:ln>
        </p:spPr>
      </p:pic>
      <p:sp>
        <p:nvSpPr>
          <p:cNvPr id="43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BC4F-8B91-47A7-AA6E-4DC67E0700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y what to count as a Juvenile Arre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view the process of compiling the monthly Juvenile ASR repo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y the difference between Race and Ethnic Orig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view </a:t>
            </a:r>
            <a:r>
              <a:rPr b="0" i="1" lang="en-US" sz="2700" spc="-1" strike="noStrike">
                <a:solidFill>
                  <a:srgbClr val="000000"/>
                </a:solidFill>
                <a:latin typeface="Lucida Sans Unicode"/>
              </a:rPr>
              <a:t>Police Dispositions of Juveniles Under 16 Years of Ag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sp>
        <p:nvSpPr>
          <p:cNvPr id="38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C74D-0CFF-4F7E-8F05-A87EC6F80E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2" descr=""/>
          <p:cNvPicPr/>
          <p:nvPr/>
        </p:nvPicPr>
        <p:blipFill>
          <a:blip r:embed="rId1"/>
          <a:stretch/>
        </p:blipFill>
        <p:spPr>
          <a:xfrm>
            <a:off x="189000" y="2279520"/>
            <a:ext cx="8454960" cy="1158840"/>
          </a:xfrm>
          <a:prstGeom prst="rect">
            <a:avLst/>
          </a:prstGeom>
          <a:ln w="0">
            <a:noFill/>
          </a:ln>
        </p:spPr>
      </p:pic>
      <p:sp>
        <p:nvSpPr>
          <p:cNvPr id="43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1D58-5667-43FB-A5D0-9FABB2FD8F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ces: Black, White, American Indian or Alaskan Native, Asian or Pacific Island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thnic Origin: Hispanic, Non-Hispanic</a:t>
            </a:r>
            <a:endParaRPr b="0" lang="en-US" sz="2700" spc="-1" strike="noStrike">
              <a:solidFill>
                <a:srgbClr val="000000"/>
              </a:solidFill>
              <a:latin typeface="Lucida Sans Unicode"/>
            </a:endParaRPr>
          </a:p>
        </p:txBody>
      </p:sp>
      <p:pic>
        <p:nvPicPr>
          <p:cNvPr id="436" name="Title 2" descr=""/>
          <p:cNvPicPr/>
          <p:nvPr/>
        </p:nvPicPr>
        <p:blipFill>
          <a:blip r:embed="rId1"/>
          <a:stretch/>
        </p:blipFill>
        <p:spPr>
          <a:xfrm>
            <a:off x="450720" y="268200"/>
            <a:ext cx="8242560" cy="1158840"/>
          </a:xfrm>
          <a:prstGeom prst="rect">
            <a:avLst/>
          </a:prstGeom>
          <a:ln w="0">
            <a:noFill/>
          </a:ln>
        </p:spPr>
      </p:pic>
      <p:sp>
        <p:nvSpPr>
          <p:cNvPr id="43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3DB5-037C-482B-AA50-0A85EA2620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White:</a:t>
            </a:r>
            <a:r>
              <a:rPr b="0" lang="en-US" sz="2700" spc="-1" strike="noStrike">
                <a:solidFill>
                  <a:srgbClr val="000000"/>
                </a:solidFill>
                <a:latin typeface="Lucida Sans Unicode"/>
              </a:rPr>
              <a:t>  having origins in any of the origin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ople of Europe, North Africa, or the Middl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s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9" name="Title 1" descr=""/>
          <p:cNvPicPr/>
          <p:nvPr/>
        </p:nvPicPr>
        <p:blipFill>
          <a:blip r:embed="rId1"/>
          <a:stretch/>
        </p:blipFill>
        <p:spPr>
          <a:xfrm>
            <a:off x="450720" y="268200"/>
            <a:ext cx="8242560" cy="1158840"/>
          </a:xfrm>
          <a:prstGeom prst="rect">
            <a:avLst/>
          </a:prstGeom>
          <a:ln w="0">
            <a:noFill/>
          </a:ln>
        </p:spPr>
      </p:pic>
      <p:sp>
        <p:nvSpPr>
          <p:cNvPr id="44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D767-D797-42BF-A101-2AA347AD81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Black:</a:t>
            </a:r>
            <a:r>
              <a:rPr b="0" lang="en-US" sz="2700" spc="-1" strike="noStrike">
                <a:solidFill>
                  <a:srgbClr val="000000"/>
                </a:solidFill>
                <a:latin typeface="Lucida Sans Unicode"/>
              </a:rPr>
              <a:t>  having origins in any of the black raci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oups of Af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2" name="Title 2" descr=""/>
          <p:cNvPicPr/>
          <p:nvPr/>
        </p:nvPicPr>
        <p:blipFill>
          <a:blip r:embed="rId1"/>
          <a:stretch/>
        </p:blipFill>
        <p:spPr>
          <a:xfrm>
            <a:off x="450720" y="268200"/>
            <a:ext cx="8242560" cy="1158840"/>
          </a:xfrm>
          <a:prstGeom prst="rect">
            <a:avLst/>
          </a:prstGeom>
          <a:ln w="0">
            <a:noFill/>
          </a:ln>
        </p:spPr>
      </p:pic>
      <p:sp>
        <p:nvSpPr>
          <p:cNvPr id="44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734B-D64C-410E-9E0A-E397401843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merican Indian or Alaskan Native:  </a:t>
            </a:r>
            <a:r>
              <a:rPr b="0" lang="en-US" sz="2700" spc="-1" strike="noStrike">
                <a:solidFill>
                  <a:srgbClr val="000000"/>
                </a:solidFill>
                <a:latin typeface="Lucida Sans Unicode"/>
              </a:rPr>
              <a:t>Havin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igins in any of the original peoples of North</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and who maintains cultur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ication through tribal affiliation o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unity recognition.</a:t>
            </a:r>
            <a:endParaRPr b="0" lang="en-US" sz="2700" spc="-1" strike="noStrike">
              <a:solidFill>
                <a:srgbClr val="000000"/>
              </a:solidFill>
              <a:latin typeface="Lucida Sans Unicode"/>
            </a:endParaRPr>
          </a:p>
        </p:txBody>
      </p:sp>
      <p:pic>
        <p:nvPicPr>
          <p:cNvPr id="445" name="Title 2" descr=""/>
          <p:cNvPicPr/>
          <p:nvPr/>
        </p:nvPicPr>
        <p:blipFill>
          <a:blip r:embed="rId1"/>
          <a:stretch/>
        </p:blipFill>
        <p:spPr>
          <a:xfrm>
            <a:off x="450720" y="268200"/>
            <a:ext cx="8242560" cy="1158840"/>
          </a:xfrm>
          <a:prstGeom prst="rect">
            <a:avLst/>
          </a:prstGeom>
          <a:ln w="0">
            <a:noFill/>
          </a:ln>
        </p:spPr>
      </p:pic>
      <p:sp>
        <p:nvSpPr>
          <p:cNvPr id="44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2AD1-96C2-4C64-91F1-3957642F87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sian or Pacific Islander:  </a:t>
            </a:r>
            <a:r>
              <a:rPr b="0" lang="en-US" sz="2700" spc="-1" strike="noStrike">
                <a:solidFill>
                  <a:srgbClr val="000000"/>
                </a:solidFill>
                <a:latin typeface="Lucida Sans Unicode"/>
              </a:rPr>
              <a:t>Having origins in an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 the original peoples of the Far Eas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utheast Asia, the Indian subcontinent, o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cific Island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ncludes, China, India, Japan, Korea, th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ilippine Islands, and Samoa.</a:t>
            </a:r>
            <a:endParaRPr b="0" lang="en-US" sz="2700" spc="-1" strike="noStrike">
              <a:solidFill>
                <a:srgbClr val="000000"/>
              </a:solidFill>
              <a:latin typeface="Lucida Sans Unicode"/>
            </a:endParaRPr>
          </a:p>
        </p:txBody>
      </p:sp>
      <p:pic>
        <p:nvPicPr>
          <p:cNvPr id="448" name="Title 2" descr=""/>
          <p:cNvPicPr/>
          <p:nvPr/>
        </p:nvPicPr>
        <p:blipFill>
          <a:blip r:embed="rId1"/>
          <a:stretch/>
        </p:blipFill>
        <p:spPr>
          <a:xfrm>
            <a:off x="450720" y="268200"/>
            <a:ext cx="8242560" cy="1158840"/>
          </a:xfrm>
          <a:prstGeom prst="rect">
            <a:avLst/>
          </a:prstGeom>
          <a:ln w="0">
            <a:noFill/>
          </a:ln>
        </p:spPr>
      </p:pic>
      <p:sp>
        <p:nvSpPr>
          <p:cNvPr id="44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25AF-531C-435D-8057-27A790A280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Hispanic:  </a:t>
            </a:r>
            <a:r>
              <a:rPr b="0" lang="en-US" sz="2700" spc="-1" strike="noStrike">
                <a:solidFill>
                  <a:srgbClr val="000000"/>
                </a:solidFill>
                <a:latin typeface="Lucida Sans Unicode"/>
              </a:rPr>
              <a:t>A person of Mexican, Puerto Rica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uban, South or Central American, or oth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anish speaking culture, </a:t>
            </a:r>
            <a:r>
              <a:rPr b="1" lang="en-US" sz="2700" spc="-1" strike="noStrike">
                <a:solidFill>
                  <a:srgbClr val="000000"/>
                </a:solidFill>
                <a:latin typeface="Lucida Sans Unicode"/>
              </a:rPr>
              <a:t>regardles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f rac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on-Hispanic:  </a:t>
            </a:r>
            <a:r>
              <a:rPr b="0" lang="en-US" sz="2700" spc="-1" strike="noStrike">
                <a:solidFill>
                  <a:srgbClr val="000000"/>
                </a:solidFill>
                <a:latin typeface="Lucida Sans Unicode"/>
              </a:rPr>
              <a:t>All other people.</a:t>
            </a:r>
            <a:endParaRPr b="0" lang="en-US" sz="2700" spc="-1" strike="noStrike">
              <a:solidFill>
                <a:srgbClr val="000000"/>
              </a:solidFill>
              <a:latin typeface="Lucida Sans Unicode"/>
            </a:endParaRPr>
          </a:p>
        </p:txBody>
      </p:sp>
      <p:pic>
        <p:nvPicPr>
          <p:cNvPr id="451" name="Title 1" descr=""/>
          <p:cNvPicPr/>
          <p:nvPr/>
        </p:nvPicPr>
        <p:blipFill>
          <a:blip r:embed="rId1"/>
          <a:stretch/>
        </p:blipFill>
        <p:spPr>
          <a:xfrm>
            <a:off x="450720" y="268200"/>
            <a:ext cx="8242560" cy="1158840"/>
          </a:xfrm>
          <a:prstGeom prst="rect">
            <a:avLst/>
          </a:prstGeom>
          <a:ln w="0">
            <a:noFill/>
          </a:ln>
        </p:spPr>
      </p:pic>
      <p:sp>
        <p:nvSpPr>
          <p:cNvPr id="45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3520-9C3F-4743-A767-1CD5EA6149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450720" y="122400"/>
            <a:ext cx="8242560" cy="1341360"/>
          </a:xfrm>
          <a:prstGeom prst="rect">
            <a:avLst/>
          </a:prstGeom>
          <a:ln w="0">
            <a:noFill/>
          </a:ln>
        </p:spPr>
      </p:pic>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best judgment” to determine the race AND ethnic origin of the person arrested.</a:t>
            </a:r>
            <a:endParaRPr b="0" lang="en-US" sz="2700" spc="-1" strike="noStrike">
              <a:solidFill>
                <a:srgbClr val="000000"/>
              </a:solidFill>
              <a:latin typeface="Lucida Sans Unicode"/>
            </a:endParaRPr>
          </a:p>
        </p:txBody>
      </p:sp>
      <p:sp>
        <p:nvSpPr>
          <p:cNvPr id="45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2EA-EB54-4697-B487-23DE9FD1CE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15 year old male is arrested after leaving a</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s station without paying for the gas he</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umped into his car.   When police arres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im, he identifies himself as Puerto Rican.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should the arrestee be classified with</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gard to Race AND Ethnic Origi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57" name="Title 1" descr=""/>
          <p:cNvPicPr/>
          <p:nvPr/>
        </p:nvPicPr>
        <p:blipFill>
          <a:blip r:embed="rId1"/>
          <a:stretch/>
        </p:blipFill>
        <p:spPr>
          <a:xfrm>
            <a:off x="341280" y="122400"/>
            <a:ext cx="8577360" cy="1341360"/>
          </a:xfrm>
          <a:prstGeom prst="rect">
            <a:avLst/>
          </a:prstGeom>
          <a:ln w="0">
            <a:noFill/>
          </a:ln>
        </p:spPr>
      </p:pic>
      <p:sp>
        <p:nvSpPr>
          <p:cNvPr id="45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1FD4-849E-4879-ABEC-C6768B5F19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WAYS indicate the race and ethnic origin of</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person arreste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lease do NOT leave either race and ethnic</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rigin blank!</a:t>
            </a:r>
            <a:endParaRPr b="0" lang="en-US" sz="2800" spc="-1" strike="noStrike">
              <a:solidFill>
                <a:srgbClr val="000000"/>
              </a:solidFill>
              <a:latin typeface="Lucida Sans Unicode"/>
            </a:endParaRPr>
          </a:p>
        </p:txBody>
      </p:sp>
      <p:pic>
        <p:nvPicPr>
          <p:cNvPr id="460" name="Title 4" descr=""/>
          <p:cNvPicPr/>
          <p:nvPr/>
        </p:nvPicPr>
        <p:blipFill>
          <a:blip r:embed="rId1"/>
          <a:stretch/>
        </p:blipFill>
        <p:spPr>
          <a:xfrm>
            <a:off x="450720" y="268200"/>
            <a:ext cx="8242560" cy="1158840"/>
          </a:xfrm>
          <a:prstGeom prst="rect">
            <a:avLst/>
          </a:prstGeom>
          <a:ln w="0">
            <a:noFill/>
          </a:ln>
        </p:spPr>
      </p:pic>
      <p:sp>
        <p:nvSpPr>
          <p:cNvPr id="46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4980-1798-4B6B-B10A-CC45B2A2F0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479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t>
            </a:r>
            <a:r>
              <a:rPr b="0" lang="en-US" sz="2800" spc="-1" strike="noStrike">
                <a:solidFill>
                  <a:srgbClr val="000000"/>
                </a:solidFill>
                <a:latin typeface="Lucida Sans Unicode"/>
              </a:rPr>
              <a:t>For UCR purposes a juvenile arrest i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unted when the circumstances are such</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at if the individual was an adult, an arres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ould have been mad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Uniform Crime Reporting (UCR) Handbook</a:t>
            </a:r>
            <a:endParaRPr b="0" lang="en-US" sz="2800" spc="-1" strike="noStrike">
              <a:solidFill>
                <a:srgbClr val="000000"/>
              </a:solidFill>
              <a:latin typeface="Lucida Sans Unicode"/>
            </a:endParaRPr>
          </a:p>
        </p:txBody>
      </p:sp>
      <p:pic>
        <p:nvPicPr>
          <p:cNvPr id="384" name="Title 2" descr=""/>
          <p:cNvPicPr/>
          <p:nvPr/>
        </p:nvPicPr>
        <p:blipFill>
          <a:blip r:embed="rId1"/>
          <a:stretch/>
        </p:blipFill>
        <p:spPr>
          <a:xfrm>
            <a:off x="450720" y="122400"/>
            <a:ext cx="8242560" cy="1341360"/>
          </a:xfrm>
          <a:prstGeom prst="rect">
            <a:avLst/>
          </a:prstGeom>
          <a:ln w="0">
            <a:noFill/>
          </a:ln>
        </p:spPr>
      </p:pic>
      <p:sp>
        <p:nvSpPr>
          <p:cNvPr id="38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CCF6-8742-4DAD-9E53-BDA855D634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3" descr=""/>
          <p:cNvPicPr/>
          <p:nvPr/>
        </p:nvPicPr>
        <p:blipFill>
          <a:blip r:embed="rId1"/>
          <a:stretch/>
        </p:blipFill>
        <p:spPr>
          <a:xfrm>
            <a:off x="536400" y="907920"/>
            <a:ext cx="8217000" cy="1543320"/>
          </a:xfrm>
          <a:prstGeom prst="rect">
            <a:avLst/>
          </a:prstGeom>
          <a:ln w="0">
            <a:noFill/>
          </a:ln>
        </p:spPr>
      </p:pic>
      <p:sp>
        <p:nvSpPr>
          <p:cNvPr id="463" name="PlaceHolder 1"/>
          <p:cNvSpPr>
            <a:spLocks noGrp="1"/>
          </p:cNvSpPr>
          <p:nvPr>
            <p:ph type="subTitle"/>
          </p:nvPr>
        </p:nvSpPr>
        <p:spPr>
          <a:xfrm>
            <a:off x="456840" y="2819160"/>
            <a:ext cx="8077320" cy="150012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ersons Under 16 Years of Age</a:t>
            </a:r>
            <a:endParaRPr b="0" lang="en-US" sz="2700" spc="-1" strike="noStrike">
              <a:solidFill>
                <a:srgbClr val="000000"/>
              </a:solidFill>
              <a:latin typeface="Lucida Sans Unicode"/>
            </a:endParaRPr>
          </a:p>
        </p:txBody>
      </p:sp>
      <p:sp>
        <p:nvSpPr>
          <p:cNvPr id="46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BBFF-1190-41B5-9B37-117F8A6735A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2" descr=""/>
          <p:cNvPicPr/>
          <p:nvPr/>
        </p:nvPicPr>
        <p:blipFill>
          <a:blip r:embed="rId1"/>
          <a:stretch/>
        </p:blipFill>
        <p:spPr>
          <a:xfrm>
            <a:off x="450720" y="268200"/>
            <a:ext cx="8242560" cy="1158840"/>
          </a:xfrm>
          <a:prstGeom prst="rect">
            <a:avLst/>
          </a:prstGeom>
          <a:ln w="0">
            <a:noFill/>
          </a:ln>
        </p:spPr>
      </p:pic>
      <p:pic>
        <p:nvPicPr>
          <p:cNvPr id="466" name="Content Placeholder 7" descr="JV Disposition 2.jpg"/>
          <p:cNvPicPr/>
          <p:nvPr/>
        </p:nvPicPr>
        <p:blipFill>
          <a:blip r:embed="rId2"/>
          <a:stretch/>
        </p:blipFill>
        <p:spPr>
          <a:xfrm>
            <a:off x="0" y="1219320"/>
            <a:ext cx="9144000" cy="5867280"/>
          </a:xfrm>
          <a:prstGeom prst="rect">
            <a:avLst/>
          </a:prstGeom>
          <a:ln w="0">
            <a:noFill/>
          </a:ln>
        </p:spPr>
      </p:pic>
      <p:sp>
        <p:nvSpPr>
          <p:cNvPr id="46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C345-C80A-45D0-87D3-D4C565E4A9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York State Definition – Under 16 Years of Ag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tional Definition - Under 18 Years of Ag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9" name="Title 1" descr=""/>
          <p:cNvPicPr/>
          <p:nvPr/>
        </p:nvPicPr>
        <p:blipFill>
          <a:blip r:embed="rId1"/>
          <a:stretch/>
        </p:blipFill>
        <p:spPr>
          <a:xfrm>
            <a:off x="262080" y="268200"/>
            <a:ext cx="8607240" cy="1158840"/>
          </a:xfrm>
          <a:prstGeom prst="rect">
            <a:avLst/>
          </a:prstGeom>
          <a:ln w="0">
            <a:noFill/>
          </a:ln>
        </p:spPr>
      </p:pic>
      <p:sp>
        <p:nvSpPr>
          <p:cNvPr id="47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8309-C37B-4C92-B9FC-A1FA672493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ly report the disposition of juveniles under 16 that were reported on the AS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NOT include juveniles that did not commit a UCR offen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tal dispositions = total # of reported arrests of persons under 16 on the ASR</a:t>
            </a:r>
            <a:endParaRPr b="0" lang="en-US" sz="2700" spc="-1" strike="noStrike">
              <a:solidFill>
                <a:srgbClr val="000000"/>
              </a:solidFill>
              <a:latin typeface="Lucida Sans Unicode"/>
            </a:endParaRPr>
          </a:p>
        </p:txBody>
      </p:sp>
      <p:pic>
        <p:nvPicPr>
          <p:cNvPr id="472" name="Title 2" descr=""/>
          <p:cNvPicPr/>
          <p:nvPr/>
        </p:nvPicPr>
        <p:blipFill>
          <a:blip r:embed="rId1"/>
          <a:stretch/>
        </p:blipFill>
        <p:spPr>
          <a:xfrm>
            <a:off x="450720" y="122400"/>
            <a:ext cx="8321760" cy="1341360"/>
          </a:xfrm>
          <a:prstGeom prst="rect">
            <a:avLst/>
          </a:prstGeom>
          <a:ln w="0">
            <a:noFill/>
          </a:ln>
        </p:spPr>
      </p:pic>
      <p:sp>
        <p:nvSpPr>
          <p:cNvPr id="47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3CDC-A3BF-4726-9E50-D0313AD630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Handled Within Department and Release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Referred to Juvenile Court or Prob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Referred to Welfare Agenc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 Referred to Other Police Agenc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 Referred to Criminal or Adult Cou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5" name="Title 1" descr=""/>
          <p:cNvPicPr/>
          <p:nvPr/>
        </p:nvPicPr>
        <p:blipFill>
          <a:blip r:embed="rId1"/>
          <a:stretch/>
        </p:blipFill>
        <p:spPr>
          <a:xfrm>
            <a:off x="311040" y="268200"/>
            <a:ext cx="8515440" cy="1158840"/>
          </a:xfrm>
          <a:prstGeom prst="rect">
            <a:avLst/>
          </a:prstGeom>
          <a:ln w="0">
            <a:noFill/>
          </a:ln>
        </p:spPr>
      </p:pic>
      <p:sp>
        <p:nvSpPr>
          <p:cNvPr id="47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A261-4BFC-4D96-AE46-BF4449D43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Juvenile Under 16 years of ag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rested, but not referred to family cour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o formal charge filed against the juvenile</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78" name="Title 6" descr=""/>
          <p:cNvPicPr/>
          <p:nvPr/>
        </p:nvPicPr>
        <p:blipFill>
          <a:blip r:embed="rId1"/>
          <a:stretch/>
        </p:blipFill>
        <p:spPr>
          <a:xfrm>
            <a:off x="42840" y="42840"/>
            <a:ext cx="9107640" cy="1481040"/>
          </a:xfrm>
          <a:prstGeom prst="rect">
            <a:avLst/>
          </a:prstGeom>
          <a:ln w="0">
            <a:noFill/>
          </a:ln>
        </p:spPr>
      </p:pic>
      <p:sp>
        <p:nvSpPr>
          <p:cNvPr id="47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53C6-66BD-4761-8AE5-0233D3CAE5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clude all Under-16 Juveniles referred to</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obation departmen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erson, agency, or group within jurisdiction of Family Court</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81" name="Title 1" descr=""/>
          <p:cNvPicPr/>
          <p:nvPr/>
        </p:nvPicPr>
        <p:blipFill>
          <a:blip r:embed="rId1"/>
          <a:stretch/>
        </p:blipFill>
        <p:spPr>
          <a:xfrm>
            <a:off x="231840" y="139680"/>
            <a:ext cx="8461440" cy="1311120"/>
          </a:xfrm>
          <a:prstGeom prst="rect">
            <a:avLst/>
          </a:prstGeom>
          <a:ln w="0">
            <a:noFill/>
          </a:ln>
        </p:spPr>
      </p:pic>
      <p:sp>
        <p:nvSpPr>
          <p:cNvPr id="48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59EE-BB9F-4B08-8918-AC7739FD5F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clude juveniles referred to welfare agenci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her than family court or prob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lfare agencies can be public or privat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Examples: Local Boys and Girls Club, Polic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Athletic League, or local Dept. of Socia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rPr>
              <a:t>Services.</a:t>
            </a:r>
            <a:endParaRPr b="0" lang="en-US" sz="2700" spc="-1" strike="noStrike">
              <a:solidFill>
                <a:srgbClr val="000000"/>
              </a:solidFill>
              <a:latin typeface="Lucida Sans Unicode"/>
            </a:endParaRPr>
          </a:p>
        </p:txBody>
      </p:sp>
      <p:pic>
        <p:nvPicPr>
          <p:cNvPr id="484" name="Title 1" descr=""/>
          <p:cNvPicPr/>
          <p:nvPr/>
        </p:nvPicPr>
        <p:blipFill>
          <a:blip r:embed="rId1"/>
          <a:stretch/>
        </p:blipFill>
        <p:spPr>
          <a:xfrm>
            <a:off x="201600" y="268200"/>
            <a:ext cx="8491680" cy="1158840"/>
          </a:xfrm>
          <a:prstGeom prst="rect">
            <a:avLst/>
          </a:prstGeom>
          <a:ln w="0">
            <a:noFill/>
          </a:ln>
        </p:spPr>
      </p:pic>
      <p:sp>
        <p:nvSpPr>
          <p:cNvPr id="48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E826-0881-4BE7-B181-290366D279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clude Juveniles wh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 Are arrested at request of another law enforcement agency</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2. Committed crime in one jurisdiction but reside in another and turned over to home jurisdiction for handling</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hese arrests should NOT be counted on the ASR</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report.</a:t>
            </a:r>
            <a:endParaRPr b="0" lang="en-US" sz="2400" spc="-1" strike="noStrike">
              <a:solidFill>
                <a:srgbClr val="000000"/>
              </a:solidFill>
              <a:latin typeface="Lucida Sans Unicode"/>
            </a:endParaRPr>
          </a:p>
        </p:txBody>
      </p:sp>
      <p:pic>
        <p:nvPicPr>
          <p:cNvPr id="487" name="Title 1" descr=""/>
          <p:cNvPicPr/>
          <p:nvPr/>
        </p:nvPicPr>
        <p:blipFill>
          <a:blip r:embed="rId1"/>
          <a:stretch/>
        </p:blipFill>
        <p:spPr>
          <a:xfrm>
            <a:off x="231840" y="268200"/>
            <a:ext cx="8461440" cy="1158840"/>
          </a:xfrm>
          <a:prstGeom prst="rect">
            <a:avLst/>
          </a:prstGeom>
          <a:ln w="0">
            <a:noFill/>
          </a:ln>
        </p:spPr>
      </p:pic>
      <p:sp>
        <p:nvSpPr>
          <p:cNvPr id="48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E49D-6529-449E-928C-AF7041D2C7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clude any Under-16 Juveniles referred 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ult court for the juvenile offender process</a:t>
            </a:r>
            <a:endParaRPr b="0" lang="en-US" sz="2700" spc="-1" strike="noStrike">
              <a:solidFill>
                <a:srgbClr val="000000"/>
              </a:solidFill>
              <a:latin typeface="Lucida Sans Unicode"/>
            </a:endParaRPr>
          </a:p>
        </p:txBody>
      </p:sp>
      <p:pic>
        <p:nvPicPr>
          <p:cNvPr id="490" name="Title 1" descr=""/>
          <p:cNvPicPr/>
          <p:nvPr/>
        </p:nvPicPr>
        <p:blipFill>
          <a:blip r:embed="rId1"/>
          <a:stretch/>
        </p:blipFill>
        <p:spPr>
          <a:xfrm>
            <a:off x="225360" y="122400"/>
            <a:ext cx="8467920" cy="1341360"/>
          </a:xfrm>
          <a:prstGeom prst="rect">
            <a:avLst/>
          </a:prstGeom>
          <a:ln w="0">
            <a:noFill/>
          </a:ln>
        </p:spPr>
      </p:pic>
      <p:sp>
        <p:nvSpPr>
          <p:cNvPr id="49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C162-4A68-457A-9FDD-AEFE21CA7F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tistics are being gathered to measu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riminal activity, not court activity or form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rrests</a:t>
            </a: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
        <p:nvSpPr>
          <p:cNvPr id="38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5E4A-1124-436B-BDDD-90BDFA3AC6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CJS has discontinued collecting data on Runaway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necessary to report data for juveniles taken into custody as runaways, truants, or curfew and loitering law violators.</a:t>
            </a:r>
            <a:endParaRPr b="0" lang="en-US" sz="2700" spc="-1" strike="noStrike">
              <a:solidFill>
                <a:srgbClr val="000000"/>
              </a:solidFill>
              <a:latin typeface="Lucida Sans Unicode"/>
            </a:endParaRPr>
          </a:p>
        </p:txBody>
      </p:sp>
      <p:pic>
        <p:nvPicPr>
          <p:cNvPr id="493" name="Title 1" descr=""/>
          <p:cNvPicPr/>
          <p:nvPr/>
        </p:nvPicPr>
        <p:blipFill>
          <a:blip r:embed="rId1"/>
          <a:stretch/>
        </p:blipFill>
        <p:spPr>
          <a:xfrm>
            <a:off x="450720" y="268200"/>
            <a:ext cx="8242560" cy="1158840"/>
          </a:xfrm>
          <a:prstGeom prst="rect">
            <a:avLst/>
          </a:prstGeom>
          <a:ln w="0">
            <a:noFill/>
          </a:ln>
        </p:spPr>
      </p:pic>
      <p:sp>
        <p:nvSpPr>
          <p:cNvPr id="4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F5BE-14AF-4AEB-9677-2CF913E244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CJS will call your agency to verify the accurac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 data that deviates from reported norms.</a:t>
            </a:r>
            <a:endParaRPr b="0" lang="en-US" sz="2700" spc="-1" strike="noStrike">
              <a:solidFill>
                <a:srgbClr val="000000"/>
              </a:solidFill>
              <a:latin typeface="Lucida Sans Unicode"/>
            </a:endParaRPr>
          </a:p>
        </p:txBody>
      </p:sp>
      <p:pic>
        <p:nvPicPr>
          <p:cNvPr id="496" name="Title 1" descr=""/>
          <p:cNvPicPr/>
          <p:nvPr/>
        </p:nvPicPr>
        <p:blipFill>
          <a:blip r:embed="rId1"/>
          <a:stretch/>
        </p:blipFill>
        <p:spPr>
          <a:xfrm>
            <a:off x="212760" y="268200"/>
            <a:ext cx="8705880" cy="1158840"/>
          </a:xfrm>
          <a:prstGeom prst="rect">
            <a:avLst/>
          </a:prstGeom>
          <a:ln w="0">
            <a:noFill/>
          </a:ln>
        </p:spPr>
      </p:pic>
      <p:sp>
        <p:nvSpPr>
          <p:cNvPr id="49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4452-E3F7-4936-82CB-5F97C827E2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33160" y="533160"/>
            <a:ext cx="8001000" cy="609588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pic>
        <p:nvPicPr>
          <p:cNvPr id="499" name="Picture 6" descr=""/>
          <p:cNvPicPr/>
          <p:nvPr/>
        </p:nvPicPr>
        <p:blipFill>
          <a:blip r:embed="rId1"/>
          <a:stretch/>
        </p:blipFill>
        <p:spPr>
          <a:xfrm>
            <a:off x="-1981080" y="-990720"/>
            <a:ext cx="12191760" cy="914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YS Division of Criminal Justice Service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ime Reporting Unit</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800-262-3257</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mail:</a:t>
            </a:r>
            <a:r>
              <a:rPr b="0" lang="en-US" sz="2000" spc="-1" strike="noStrike">
                <a:solidFill>
                  <a:srgbClr val="000000"/>
                </a:solidFill>
                <a:latin typeface="Lucida Sans Unicode"/>
              </a:rPr>
              <a:t> </a:t>
            </a:r>
            <a:r>
              <a:rPr b="0" lang="en-US" sz="2000" spc="-1" strike="noStrike">
                <a:solidFill>
                  <a:srgbClr val="ff0000"/>
                </a:solidFill>
                <a:latin typeface="Lucida Sans Unicode"/>
              </a:rPr>
              <a:t>crimereporting@dcjs.ny.gov</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501" name="Title 2" descr=""/>
          <p:cNvPicPr/>
          <p:nvPr/>
        </p:nvPicPr>
        <p:blipFill>
          <a:blip r:embed="rId1"/>
          <a:stretch/>
        </p:blipFill>
        <p:spPr>
          <a:xfrm>
            <a:off x="450720" y="122400"/>
            <a:ext cx="8242560" cy="1341360"/>
          </a:xfrm>
          <a:prstGeom prst="rect">
            <a:avLst/>
          </a:prstGeom>
          <a:ln w="0">
            <a:noFill/>
          </a:ln>
        </p:spPr>
      </p:pic>
      <p:sp>
        <p:nvSpPr>
          <p:cNvPr id="50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C2EC-C7C2-4B82-8699-8C7FD9CA2B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tal number of persons “arrested”, cited, or summoned for all Part I and Part II crimes during a specified month</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mographic characteristics of persons arrested (age, sex, race, ethnic origi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number of persons arrested, not the number of charges lodged</a:t>
            </a:r>
            <a:endParaRPr b="0" lang="en-US" sz="2800" spc="-1" strike="noStrike">
              <a:solidFill>
                <a:srgbClr val="000000"/>
              </a:solidFill>
              <a:latin typeface="Lucida Sans Unicode"/>
            </a:endParaRPr>
          </a:p>
        </p:txBody>
      </p:sp>
      <p:pic>
        <p:nvPicPr>
          <p:cNvPr id="390" name="Title 2" descr=""/>
          <p:cNvPicPr/>
          <p:nvPr/>
        </p:nvPicPr>
        <p:blipFill>
          <a:blip r:embed="rId1"/>
          <a:stretch/>
        </p:blipFill>
        <p:spPr>
          <a:xfrm>
            <a:off x="360360" y="268200"/>
            <a:ext cx="8418600" cy="1158840"/>
          </a:xfrm>
          <a:prstGeom prst="rect">
            <a:avLst/>
          </a:prstGeom>
          <a:ln w="0">
            <a:noFill/>
          </a:ln>
        </p:spPr>
      </p:pic>
      <p:sp>
        <p:nvSpPr>
          <p:cNvPr id="39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833D-C85D-4D08-A944-90BB5D7628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33520" y="1142640"/>
            <a:ext cx="8229600" cy="47242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robable cause</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t>
            </a:r>
            <a:r>
              <a:rPr b="0" lang="en-US" sz="2800" spc="-1" strike="noStrike">
                <a:solidFill>
                  <a:srgbClr val="000000"/>
                </a:solidFill>
                <a:latin typeface="Lucida Sans Unicode"/>
              </a:rPr>
              <a:t>taken into custody”,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or issued an appearance ticket  </a:t>
            </a:r>
            <a:endParaRPr b="0" lang="en-US" sz="2800" spc="-1" strike="noStrike">
              <a:solidFill>
                <a:srgbClr val="000000"/>
              </a:solidFill>
              <a:latin typeface="Lucida Sans Unicode"/>
            </a:endParaRPr>
          </a:p>
          <a:p>
            <a:pPr lvl="2" marL="1224000" indent="-457200">
              <a:spcBef>
                <a:spcPts val="349"/>
              </a:spcBef>
              <a:buClr>
                <a:srgbClr val="da1f2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62080" y="268200"/>
            <a:ext cx="8613720" cy="1158840"/>
          </a:xfrm>
          <a:prstGeom prst="rect">
            <a:avLst/>
          </a:prstGeom>
          <a:ln w="0">
            <a:noFill/>
          </a:ln>
        </p:spPr>
      </p:pic>
      <p:sp>
        <p:nvSpPr>
          <p:cNvPr id="3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5317-9324-472C-BF82-C05100F59D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63180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aken into custody” means that the juvenile is</a:t>
            </a:r>
            <a:endParaRPr b="0" lang="en-US" sz="2500" spc="-1" strike="noStrike">
              <a:solidFill>
                <a:srgbClr val="000000"/>
              </a:solidFill>
              <a:latin typeface="Lucida Sans Unicode"/>
            </a:endParaRPr>
          </a:p>
          <a:p>
            <a:pPr marL="63180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longer free to leave regardless of whether he</a:t>
            </a:r>
            <a:endParaRPr b="0" lang="en-US" sz="2500" spc="-1" strike="noStrike">
              <a:solidFill>
                <a:srgbClr val="000000"/>
              </a:solidFill>
              <a:latin typeface="Lucida Sans Unicode"/>
            </a:endParaRPr>
          </a:p>
          <a:p>
            <a:pPr marL="63180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r she is</a:t>
            </a:r>
            <a:endParaRPr b="0" lang="en-US" sz="2500" spc="-1" strike="noStrike">
              <a:solidFill>
                <a:srgbClr val="000000"/>
              </a:solidFill>
              <a:latin typeface="Lucida Sans Unicode"/>
            </a:endParaRPr>
          </a:p>
          <a:p>
            <a:pPr marL="63180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63180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andcuffed</a:t>
            </a:r>
            <a:endParaRPr b="0" lang="en-US" sz="2500" spc="-1" strike="noStrike">
              <a:solidFill>
                <a:srgbClr val="000000"/>
              </a:solidFill>
              <a:latin typeface="Lucida Sans Unicode"/>
            </a:endParaRPr>
          </a:p>
          <a:p>
            <a:pPr marL="63180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laced in a police vehicle</a:t>
            </a:r>
            <a:endParaRPr b="0" lang="en-US" sz="2500" spc="-1" strike="noStrike">
              <a:solidFill>
                <a:srgbClr val="000000"/>
              </a:solidFill>
              <a:latin typeface="Lucida Sans Unicode"/>
            </a:endParaRPr>
          </a:p>
          <a:p>
            <a:pPr marL="63180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ought to a police station</a:t>
            </a:r>
            <a:endParaRPr b="0" lang="en-US" sz="2500" spc="-1" strike="noStrike">
              <a:solidFill>
                <a:srgbClr val="000000"/>
              </a:solidFill>
              <a:latin typeface="Lucida Sans Unicode"/>
            </a:endParaRPr>
          </a:p>
          <a:p>
            <a:pPr marL="63180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aken directly to Family Court or secure detention</a:t>
            </a:r>
            <a:endParaRPr b="0" lang="en-US" sz="2500" spc="-1" strike="noStrike">
              <a:solidFill>
                <a:srgbClr val="000000"/>
              </a:solidFill>
              <a:latin typeface="Lucida Sans Unicode"/>
            </a:endParaRPr>
          </a:p>
          <a:p>
            <a:pPr marL="631800" indent="-514440">
              <a:lnSpc>
                <a:spcPct val="8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iven an appearance ticket</a:t>
            </a:r>
            <a:endParaRPr b="0" lang="en-US" sz="2500" spc="-1" strike="noStrike">
              <a:solidFill>
                <a:srgbClr val="000000"/>
              </a:solidFill>
              <a:latin typeface="Lucida Sans Unicode"/>
            </a:endParaRPr>
          </a:p>
          <a:p>
            <a:pPr marL="63180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OR</a:t>
            </a:r>
            <a:endParaRPr b="0" lang="en-US" sz="2500" spc="-1" strike="noStrike">
              <a:solidFill>
                <a:srgbClr val="000000"/>
              </a:solidFill>
              <a:latin typeface="Lucida Sans Unicode"/>
            </a:endParaRPr>
          </a:p>
          <a:p>
            <a:pPr marL="631800" indent="-514440">
              <a:lnSpc>
                <a:spcPct val="80000"/>
              </a:lnSpc>
              <a:spcBef>
                <a:spcPts val="400"/>
              </a:spcBef>
              <a:buClr>
                <a:srgbClr val="2da2bf"/>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warned and released without further action</a:t>
            </a:r>
            <a:endParaRPr b="0" lang="en-US" sz="2500" spc="-1" strike="noStrike">
              <a:solidFill>
                <a:srgbClr val="000000"/>
              </a:solidFill>
              <a:latin typeface="Lucida Sans Unicode"/>
            </a:endParaRPr>
          </a:p>
          <a:p>
            <a:pPr marL="631800" indent="-514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6" name="Title 1" descr=""/>
          <p:cNvPicPr/>
          <p:nvPr/>
        </p:nvPicPr>
        <p:blipFill>
          <a:blip r:embed="rId1"/>
          <a:stretch/>
        </p:blipFill>
        <p:spPr>
          <a:xfrm>
            <a:off x="450720" y="268200"/>
            <a:ext cx="8242560" cy="1158840"/>
          </a:xfrm>
          <a:prstGeom prst="rect">
            <a:avLst/>
          </a:prstGeom>
          <a:ln w="0">
            <a:noFill/>
          </a:ln>
        </p:spPr>
      </p:pic>
      <p:sp>
        <p:nvSpPr>
          <p:cNvPr id="39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DF0F-FF3A-4CD6-A358-16389D2ABE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0880" y="15238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uvenile male is taken into police custod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fter he is observed shoplifting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questioning, the juvenile is warned by the police and released to his pare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formal charges are brought against the juveni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225360" y="268200"/>
            <a:ext cx="8686800" cy="1158840"/>
          </a:xfrm>
          <a:prstGeom prst="rect">
            <a:avLst/>
          </a:prstGeom>
          <a:ln w="0">
            <a:noFill/>
          </a:ln>
        </p:spPr>
      </p:pic>
      <p:sp>
        <p:nvSpPr>
          <p:cNvPr id="40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8DC9-6071-4BEE-8704-3D94952614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uvenile is pulled over for speeding</a:t>
            </a:r>
            <a:endParaRPr b="0" lang="en-US" sz="27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hicle search uncovers drug paraphernalia and a small quantity of marijuana</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uvenile is detained by police until her legal</a:t>
            </a:r>
            <a:endParaRPr b="0" lang="en-US" sz="27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guardian arrives at the scene</a:t>
            </a:r>
            <a:endParaRPr b="0" lang="en-US" sz="27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uvenile is released to legal guardian with no formal charges are lodged</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2" name="Title 2" descr=""/>
          <p:cNvPicPr/>
          <p:nvPr/>
        </p:nvPicPr>
        <p:blipFill>
          <a:blip r:embed="rId1"/>
          <a:stretch/>
        </p:blipFill>
        <p:spPr>
          <a:xfrm>
            <a:off x="225360" y="268200"/>
            <a:ext cx="8686800" cy="1158840"/>
          </a:xfrm>
          <a:prstGeom prst="rect">
            <a:avLst/>
          </a:prstGeom>
          <a:ln w="0">
            <a:noFill/>
          </a:ln>
        </p:spPr>
      </p:pic>
      <p:sp>
        <p:nvSpPr>
          <p:cNvPr id="4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27E8-F824-495E-A924-45A2A5FB9C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7:36:53Z</dcterms:created>
  <dc:creator>Zachary Morton</dc:creator>
  <dc:description/>
  <dc:language>en-US</dc:language>
  <cp:lastModifiedBy>dcjszmorton</cp:lastModifiedBy>
  <dcterms:modified xsi:type="dcterms:W3CDTF">2013-03-27T17:18:30Z</dcterms:modified>
  <cp:revision>372</cp:revision>
  <dc:subject/>
  <dc:title>Reporting Juvenile Crime</dc:title>
</cp:coreProperties>
</file>